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828800" y="415404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7748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415404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77480" y="415404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02000" y="14475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75200" y="14475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28800" y="415404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02000" y="415404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75200" y="415404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828800" y="14475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356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77480" y="1447560"/>
            <a:ext cx="356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77480" y="1447560"/>
            <a:ext cx="356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828800" y="415404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356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7748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77480" y="415404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77480" y="14475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28800" y="415404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8800" y="14475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Click to edit the outline text format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Second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Third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Fourth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Fifth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Sixth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omic Sans MS"/>
              </a:rPr>
              <a:t>Seventh Outline Level</a:t>
            </a:r>
            <a:endParaRPr b="1" lang="en-US" sz="1400" spc="-1" strike="noStrike">
              <a:solidFill>
                <a:srgbClr val="99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1600200"/>
            <a:ext cx="129528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22274" b="8030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90640" y="433440"/>
            <a:ext cx="90536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00000" y="2708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INTESI SULLA NORM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LITA’ DELL’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2679840"/>
            <a:ext cx="8763120" cy="3111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2120" y="82224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80"/>
                </a:solidFill>
                <a:latin typeface="BinnerD"/>
                <a:ea typeface="Times New Roman"/>
              </a:rPr>
              <a:t>D</a:t>
            </a:r>
            <a:r>
              <a:rPr b="1" lang="it-IT" sz="2000" spc="-1" strike="noStrike">
                <a:solidFill>
                  <a:srgbClr val="008080"/>
                </a:solidFill>
                <a:latin typeface="BinnerD"/>
                <a:ea typeface="Times New Roman"/>
              </a:rPr>
              <a:t>ecreto Legislativo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8080"/>
                </a:solidFill>
                <a:latin typeface="BinnerD"/>
                <a:ea typeface="Times New Roman"/>
              </a:rPr>
              <a:t>4 agosto 1999, n° 351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dà attuazione alla Direttiva Madre 96/62/CE e introduce importanti novità qual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l’estensione del numero di inquinanti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da sottoporre a monitoraggio e la definizione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valori limite più restrittivi rispetto ai preced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914400"/>
            <a:ext cx="769608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Arial Unicode MS"/>
                <a:ea typeface="Arial Unicode MS"/>
              </a:rPr>
              <a:t>Il D.Lgs 351/99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abilisce il nuovo contesto all’interno del quale si effettuer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la valutazione e la gestione della qualità dell’aria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econdo criteri armonizzati in tutto il territorio dell’Unione Europ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Il D.Lgs. 351/99 prevede </a:t>
            </a:r>
            <a:r>
              <a:rPr b="0" lang="en-US" sz="2000" spc="-1" strike="noStrike">
                <a:solidFill>
                  <a:srgbClr val="3333cc"/>
                </a:solidFill>
                <a:latin typeface="BinnerD"/>
                <a:ea typeface="Arial Unicode MS"/>
              </a:rPr>
              <a:t>che le regioni effettuino la valutazione preliminare della qualità dell’aria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indispensabile in fase conoscitiva per individuare (artt. 7,8,9) le </a:t>
            </a:r>
            <a:r>
              <a:rPr b="0" lang="en-US" sz="2000" spc="-1" strike="noStrike">
                <a:solidFill>
                  <a:srgbClr val="3333cc"/>
                </a:solidFill>
                <a:latin typeface="BinnerD"/>
                <a:ea typeface="Arial Unicode MS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nelle quali </a:t>
            </a:r>
            <a:r>
              <a:rPr b="0" lang="en-US" sz="2000" spc="-1" strike="noStrike">
                <a:solidFill>
                  <a:srgbClr val="3333cc"/>
                </a:solidFill>
                <a:latin typeface="BinnerD"/>
                <a:ea typeface="Arial Unicode MS"/>
              </a:rPr>
              <a:t>applicar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rispettiv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innerD"/>
                <a:ea typeface="Arial Unicode MS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innerD"/>
                <a:ea typeface="Arial Unicode MS"/>
              </a:rPr>
              <a:t>Piani di Azione 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(superamento soglie di allarme e valori lim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99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BinnerD"/>
                <a:ea typeface="Arial Unicode MS"/>
              </a:rPr>
              <a:t>i Piani di Risanamento</a:t>
            </a:r>
            <a:r>
              <a:rPr b="1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(superamento valori lim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cc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BinnerD"/>
                <a:ea typeface="Arial Unicode MS"/>
              </a:rPr>
              <a:t>i Piani di Mantenimento</a:t>
            </a:r>
            <a:r>
              <a:rPr b="0" lang="en-US" sz="2000" spc="-1" strike="noStrike">
                <a:solidFill>
                  <a:srgbClr val="00ff00"/>
                </a:solidFill>
                <a:latin typeface="BinnerD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I valori limite e le soglie di allarme rispetto alle quali effettuare tale valutazione sono stati introdotti dal DM 60/02 in vigore dal 28 aprile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14400" y="990720"/>
          <a:ext cx="7543800" cy="42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5438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629400" y="22860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2895480"/>
            <a:ext cx="6098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09480" y="1143000"/>
          <a:ext cx="7696440" cy="42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69644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28600" y="6699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BinnerD"/>
              </a:rPr>
              <a:t>Andamento della concentrazione di PM10 come media ann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17524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4680" y="2068560"/>
            <a:ext cx="26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BinnerD"/>
              </a:rPr>
              <a:t>Margine Toller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09480" y="811080"/>
          <a:ext cx="7925040" cy="17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11080"/>
                    <a:ext cx="792504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09480" y="2762280"/>
          <a:ext cx="7925040" cy="358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62280"/>
                    <a:ext cx="792504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914400" y="136440"/>
            <a:ext cx="17240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lla data di entr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 vigore della diret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1522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6858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2133720"/>
            <a:ext cx="12189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4152960" y="4686120"/>
            <a:ext cx="9903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2552400" y="5371920"/>
            <a:ext cx="685800" cy="7621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80880" y="1447920"/>
          <a:ext cx="8305920" cy="32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059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209680" y="1447920"/>
            <a:ext cx="304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8920" y="898560"/>
            <a:ext cx="1825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lla data di entr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 vigore della diret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838080"/>
            <a:ext cx="1752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281952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504960" y="3809880"/>
            <a:ext cx="685800" cy="9907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295280" y="990720"/>
          <a:ext cx="6096240" cy="180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096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62120" y="3390840"/>
          <a:ext cx="7543800" cy="189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390840"/>
                    <a:ext cx="754380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5105520" y="243828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4952880"/>
            <a:ext cx="91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7320" y="60948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Normativa Comunitaria non ancora recepita in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807696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Direttiva 2001/81/CE 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Stabilisce i limiti nazionali di emissione di ciascun Stato membro per 4 inquinanti: </a:t>
            </a:r>
            <a:r>
              <a:rPr b="1" lang="it-IT" sz="2000" spc="-1" strike="noStrike">
                <a:solidFill>
                  <a:srgbClr val="0033cc"/>
                </a:solidFill>
                <a:latin typeface="BinnerD"/>
              </a:rPr>
              <a:t>SO2, NOx, COV, NH3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, responsabili del fenomeno di formazione dell’ozono troposferico oltre che dei processi di acidificazione ed eutrofizzazione. Tali limiti, indicati nell’allegato I della Direttiva devono essere rispettati entro il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</a:rPr>
              <a:t>Entro il 1° ottobre 2002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, gli Stati membri sono tenuti ad elabor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programmi per la riduzione progressiva delle emissioni nazionali annue. Tali programmi devono essere aggiornati nel 2006 (tra questi anche metodi di riduzione delle emissioni nel settore agrico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Gli Stati membri devono aggiornare annualmente gli inventari nazionali delle emissioni e devono essere comunicati alla CE entro il 31 dicembre di ogni an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</a:rPr>
              <a:t>Data di entrata in vigore: 27.11.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</a:rPr>
              <a:t>Data di trasposizione negli S.m.: </a:t>
            </a:r>
            <a:r>
              <a:rPr b="0" lang="it-IT" sz="2000" spc="-1" strike="noStrike" u="sng">
                <a:solidFill>
                  <a:srgbClr val="ff3300"/>
                </a:solidFill>
                <a:uFillTx/>
                <a:latin typeface="BinnerD"/>
              </a:rPr>
              <a:t>27.11.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5335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Direttiva 2002/3/CE (ozo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Introduce 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</a:rPr>
              <a:t>definizioni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</a:rPr>
              <a:t> di</a:t>
            </a:r>
            <a:r>
              <a:rPr b="1" lang="it-IT" sz="2000" spc="-1" strike="noStrike">
                <a:solidFill>
                  <a:srgbClr val="000000"/>
                </a:solidFill>
                <a:latin typeface="Binner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84360"/>
            <a:ext cx="815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valore bersaglio (protezione salute umana/vegetazione)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livello fissato al fine di evitare a lungo termine effetti nocivi sulla salute umana e/o sull’ambiente, da conseguirsi per quanto possibile entro un dato periodo di t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obiettivo a lungo termine (protezione salute umana/vegetazione)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 concentrazione di ozono al di sotto della quale si ritengono improbabili effetti nocivi diretti sulla salute umana e/o sull’ambiente. Tale obiettivo deve essere conseguito nel lungo periodo al fine di fornire un’efficace protezione della salute umana e dell’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precursori dell’ozono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 sostanze che contribuiscono alla formazione dell’ozono a livello del suolo (composti organici volatil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838080"/>
            <a:ext cx="76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soglia di informazione</a:t>
            </a:r>
            <a:r>
              <a:rPr b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livello oltre il quale vi è un rischio per la salute umana in caso di esposizione di breve durat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per alcuni gruppi particolarmente sensibili della popolazione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e raggiunto il quale occor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comunicare al pubblico una serie dettagliata di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soglia di allarme</a:t>
            </a:r>
            <a:r>
              <a:rPr b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livello oltre il quale vi è un rischio per la salute umana in caso di esposizione di breve durat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della popolazione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in generale e raggiunt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gli Stati membri devono immediatamente intervenire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a norma degli articoli 6 e 7 (applicazione dei Piani di 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Gli Stati membri sono tenuti a predisporre un elenco delle zone nelle qua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innerD"/>
                <a:ea typeface="Times New Roman"/>
              </a:rPr>
              <a:t>i livelli di ozono superano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i valori bersa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i valori obi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gli obiettivi a lungo 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0556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2908440"/>
            <a:ext cx="7543800" cy="119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7680" y="5936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8080"/>
                </a:solidFill>
                <a:uFillTx/>
                <a:latin typeface="BinnerD"/>
              </a:rPr>
              <a:t>Valori bersag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2680" y="247176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8080"/>
                </a:solidFill>
                <a:uFillTx/>
                <a:latin typeface="BinnerD"/>
              </a:rPr>
              <a:t>Obiettivi a lungo 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640" y="4381560"/>
            <a:ext cx="34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8080"/>
                </a:solidFill>
                <a:uFillTx/>
                <a:latin typeface="BinnerD"/>
              </a:rPr>
              <a:t>Soglie di informazione e alla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676520"/>
            <a:ext cx="685800" cy="30456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429000"/>
            <a:ext cx="685800" cy="30492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1143000" cy="30456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429000"/>
            <a:ext cx="1143000" cy="30492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8380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8380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4973760"/>
            <a:ext cx="7467480" cy="85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410080"/>
            <a:ext cx="11430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5181480"/>
            <a:ext cx="1143000" cy="22860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930240"/>
            <a:ext cx="79250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E’ in fase di preparazione a livello comunitario una Direttiva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1) introduce l’obbligatorietà del monitoraggio di metalli qua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 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BinnerD"/>
                <a:ea typeface="Arial Unicode MS"/>
              </a:rPr>
              <a:t>mercurio, piombo, cadmio, nichel oltre che arse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2) fissa per questi inquinanti </a:t>
            </a:r>
            <a:r>
              <a:rPr b="1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i nuovi valori limit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da rispettare entro il </a:t>
            </a:r>
            <a:r>
              <a:rPr b="1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Una parte della Direttiva sarà dedicata al </a:t>
            </a:r>
            <a:r>
              <a:rPr b="1" lang="en-US" sz="2000" spc="-1" strike="noStrike">
                <a:solidFill>
                  <a:srgbClr val="ff3300"/>
                </a:solidFill>
                <a:latin typeface="BinnerD"/>
                <a:ea typeface="Arial Unicode MS"/>
              </a:rPr>
              <a:t>benzo(a)piren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per il quale sarà fissato u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valore limit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sull’anno civile pari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1,0 ng/m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BinnerD"/>
                <a:ea typeface="Arial Unicode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nel 2010 e u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obiettivo a lungo termine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 pari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0.1 ng/m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BinnerD"/>
                <a:ea typeface="Arial Unicode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I tempi per la revisione e la successiva approvazione della Direttiva Comunitari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nnerD"/>
                <a:ea typeface="Arial Unicode MS"/>
              </a:rPr>
              <a:t>non sono ancora stati fissati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74360" y="304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Normativa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62120"/>
            <a:ext cx="7696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BinnerD"/>
                <a:ea typeface="Arial Unicode MS"/>
              </a:rPr>
              <a:t>DPCM 28 marzo 1983 n. 30. </a:t>
            </a:r>
            <a:r>
              <a:rPr b="0" lang="en-US" sz="2000" spc="-1" strike="noStrike">
                <a:solidFill>
                  <a:srgbClr val="000000"/>
                </a:solidFill>
                <a:latin typeface="BinnerD"/>
                <a:ea typeface="Arial Unicode MS"/>
              </a:rPr>
              <a:t>Primo decreto di interesse per la qualità aria. Ha introdotto i limiti massimi di accettabilità delle concentrazioni degli inquinanti direttamente rilevabili nell’ambiente esterno. Metodi di misura degli inquin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BinnerD"/>
                <a:ea typeface="Times New Roman"/>
              </a:rPr>
              <a:t>DPR 203/88.</a:t>
            </a:r>
            <a:r>
              <a:rPr b="0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Decreto che, ha recepito alcune Direttive Comunitarie in materia di inquinamento atmosferico e ha adeguato gli standard di qualità dell’aria alle disposizioni normative europ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Decreto fondamentale per le procedure di autorizzazione alle emissioni in atmosfera degli impianti industriali.</a:t>
            </a:r>
            <a:r>
              <a:rPr b="0" i="1" lang="it-IT" sz="2000" spc="-1" strike="noStrike">
                <a:solidFill>
                  <a:srgbClr val="000000"/>
                </a:solidFill>
                <a:latin typeface="Binne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80"/>
                </a:solidFill>
                <a:latin typeface="BinnerD"/>
                <a:ea typeface="Arial Unicode MS"/>
              </a:rPr>
              <a:t>DM 25/11/94.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escrive l’obbligatorietà della raccolta dei dati riguardanti il 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nzo(a)pirene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el particolato, da parte delle autorità competenti nelle aree urbane a maggior rischio, indica i metodi di riferimento per il campionamento e la misura di tali sostanze, fissa l’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iettivo di qualità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ell’aria per tale inqu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7960" y="593640"/>
            <a:ext cx="74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Normativa Statale </a:t>
            </a:r>
            <a:r>
              <a:rPr b="1" lang="it-IT" sz="1600" spc="-1" strike="noStrike" u="sng">
                <a:solidFill>
                  <a:srgbClr val="008080"/>
                </a:solidFill>
                <a:uFillTx/>
                <a:latin typeface="BinnerD"/>
              </a:rPr>
              <a:t>(DPCM 28.03.83 come modificato dal DPR 203/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00120" y="1138320"/>
            <a:ext cx="7945200" cy="4957560"/>
            <a:chOff x="600120" y="1138320"/>
            <a:chExt cx="7945200" cy="4957560"/>
          </a:xfrm>
        </p:grpSpPr>
        <p:grpSp>
          <p:nvGrpSpPr>
            <p:cNvPr id="65" name=""/>
            <p:cNvGrpSpPr/>
            <p:nvPr/>
          </p:nvGrpSpPr>
          <p:grpSpPr>
            <a:xfrm>
              <a:off x="604800" y="1143000"/>
              <a:ext cx="7935840" cy="4948200"/>
              <a:chOff x="604800" y="1143000"/>
              <a:chExt cx="7935840" cy="49482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04800" y="1143000"/>
                <a:ext cx="1092240" cy="563400"/>
                <a:chOff x="604800" y="1143000"/>
                <a:chExt cx="1092240" cy="563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42960" y="1181160"/>
                  <a:ext cx="10159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Inquina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4800" y="1143000"/>
                  <a:ext cx="109224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697040" y="1143000"/>
                <a:ext cx="3332160" cy="563400"/>
                <a:chOff x="1697040" y="1143000"/>
                <a:chExt cx="3332160" cy="5634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735200" y="1181160"/>
                  <a:ext cx="32558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Elaborazi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697040" y="1143000"/>
                  <a:ext cx="333216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029200" y="1143000"/>
                <a:ext cx="1066680" cy="563400"/>
                <a:chOff x="5029200" y="1143000"/>
                <a:chExt cx="1066680" cy="5634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067360" y="1181160"/>
                  <a:ext cx="990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Valore lim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029200" y="1143000"/>
                  <a:ext cx="106668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095880" y="1143000"/>
                <a:ext cx="1279440" cy="563400"/>
                <a:chOff x="6095880" y="1143000"/>
                <a:chExt cx="1279440" cy="5634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34040" y="1181160"/>
                  <a:ext cx="12034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Perio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095880" y="1143000"/>
                  <a:ext cx="127944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375320" y="1143000"/>
                <a:ext cx="1165320" cy="563400"/>
                <a:chOff x="7375320" y="1143000"/>
                <a:chExt cx="1165320" cy="5634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413480" y="1181160"/>
                  <a:ext cx="1089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Rif. Norm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375320" y="1143000"/>
                  <a:ext cx="11653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04800" y="1782720"/>
                <a:ext cx="1092240" cy="1476360"/>
                <a:chOff x="604800" y="1782720"/>
                <a:chExt cx="1092240" cy="1476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42960" y="1820880"/>
                  <a:ext cx="1015920" cy="14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SO</a:t>
                  </a:r>
                  <a:r>
                    <a:rPr b="1" lang="en-US" sz="1600" spc="-1" strike="noStrike" baseline="-30000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04800" y="1782720"/>
                  <a:ext cx="1092240" cy="14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97040" y="1782720"/>
                <a:ext cx="3332160" cy="1476360"/>
                <a:chOff x="1697040" y="1782720"/>
                <a:chExt cx="3332160" cy="1476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35200" y="1820880"/>
                  <a:ext cx="3255840" cy="14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mediana delle concentrazioni medie di 24 ore rilevate nell’arco di un anno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8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percentile delle concentrazioni medie di 24 ore rilevate nell’arco di un ann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mediana delle concentrazioni medie di 24 ore rilevate durante il semestre inverna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97040" y="1782720"/>
                  <a:ext cx="3332160" cy="14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029200" y="1782720"/>
                <a:ext cx="1066680" cy="1476360"/>
                <a:chOff x="5029200" y="1782720"/>
                <a:chExt cx="1066680" cy="1476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067360" y="1820880"/>
                  <a:ext cx="990360" cy="14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5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3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029200" y="1782720"/>
                  <a:ext cx="1066680" cy="14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095880" y="1782720"/>
                <a:ext cx="1279440" cy="1476360"/>
                <a:chOff x="6095880" y="1782720"/>
                <a:chExt cx="1279440" cy="1476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134040" y="1820880"/>
                  <a:ext cx="1203480" cy="14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apr.-31 mar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apr.-31 mar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ott.-31 mar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095880" y="1782720"/>
                  <a:ext cx="1279440" cy="14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375320" y="1782720"/>
                <a:ext cx="1165320" cy="1476360"/>
                <a:chOff x="7375320" y="1782720"/>
                <a:chExt cx="1165320" cy="1476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413480" y="1820880"/>
                  <a:ext cx="1089000" cy="140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R 203/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R 203/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R 203/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75320" y="1782720"/>
                  <a:ext cx="1165320" cy="14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04800" y="3335400"/>
                <a:ext cx="1092240" cy="745920"/>
                <a:chOff x="604800" y="3335400"/>
                <a:chExt cx="1092240" cy="745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42960" y="3373560"/>
                  <a:ext cx="101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NO</a:t>
                  </a:r>
                  <a:r>
                    <a:rPr b="1" lang="en-US" sz="1600" spc="-1" strike="noStrike" baseline="-30000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04800" y="3335400"/>
                  <a:ext cx="1092240" cy="74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697040" y="3335400"/>
                <a:ext cx="3332160" cy="745920"/>
                <a:chOff x="1697040" y="3335400"/>
                <a:chExt cx="3332160" cy="7459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735200" y="3373560"/>
                  <a:ext cx="32558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8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percentile delle concentrazioni medie di un’ora rilevate nell’arco di un ann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97040" y="3335400"/>
                  <a:ext cx="3332160" cy="74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029200" y="3335400"/>
                <a:ext cx="1066680" cy="745920"/>
                <a:chOff x="5029200" y="3335400"/>
                <a:chExt cx="1066680" cy="7459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67360" y="3373560"/>
                  <a:ext cx="9903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0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029200" y="3335400"/>
                  <a:ext cx="1066680" cy="74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6095880" y="3335400"/>
                <a:ext cx="1279440" cy="745920"/>
                <a:chOff x="6095880" y="3335400"/>
                <a:chExt cx="1279440" cy="7459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34040" y="3373560"/>
                  <a:ext cx="12034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gen.-31 dic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095880" y="3335400"/>
                  <a:ext cx="1279440" cy="74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375320" y="3335400"/>
                <a:ext cx="1165320" cy="745920"/>
                <a:chOff x="7375320" y="3335400"/>
                <a:chExt cx="1165320" cy="7459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413480" y="3373560"/>
                  <a:ext cx="1089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R 203/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375320" y="3335400"/>
                  <a:ext cx="1165320" cy="74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04800" y="4157640"/>
                <a:ext cx="1092240" cy="746280"/>
                <a:chOff x="604800" y="4157640"/>
                <a:chExt cx="1092240" cy="746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42960" y="4195800"/>
                  <a:ext cx="101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O</a:t>
                  </a:r>
                  <a:r>
                    <a:rPr b="1" lang="en-US" sz="1600" spc="-1" strike="noStrike" baseline="-30000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04800" y="4157640"/>
                  <a:ext cx="10922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97040" y="4157640"/>
                <a:ext cx="3332160" cy="746280"/>
                <a:chOff x="1697040" y="4157640"/>
                <a:chExt cx="3332160" cy="746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735200" y="4195800"/>
                  <a:ext cx="325584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centrazione media di un’ora da non superare più di una volta al me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97040" y="4157640"/>
                  <a:ext cx="33321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029200" y="4157640"/>
                <a:ext cx="1066680" cy="746280"/>
                <a:chOff x="5029200" y="4157640"/>
                <a:chExt cx="1066680" cy="746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067360" y="4195800"/>
                  <a:ext cx="9903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0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029200" y="4157640"/>
                  <a:ext cx="106668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095880" y="4157640"/>
                <a:ext cx="1279440" cy="746280"/>
                <a:chOff x="6095880" y="4157640"/>
                <a:chExt cx="1279440" cy="746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134040" y="4195800"/>
                  <a:ext cx="12034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5880" y="4157640"/>
                  <a:ext cx="12794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375320" y="4157640"/>
                <a:ext cx="1165320" cy="746280"/>
                <a:chOff x="7375320" y="4157640"/>
                <a:chExt cx="1165320" cy="746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413480" y="4195800"/>
                  <a:ext cx="1089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75320" y="4157640"/>
                  <a:ext cx="116532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4800" y="4979880"/>
                <a:ext cx="1092240" cy="1111320"/>
                <a:chOff x="604800" y="4979880"/>
                <a:chExt cx="1092240" cy="11113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42960" y="5018040"/>
                  <a:ext cx="10159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4800" y="4979880"/>
                  <a:ext cx="10922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697040" y="4979880"/>
                <a:ext cx="3332160" cy="1111320"/>
                <a:chOff x="1697040" y="4979880"/>
                <a:chExt cx="3332160" cy="1111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735200" y="5018040"/>
                  <a:ext cx="325584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centrazione media di 8 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centrazione media di 1 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697040" y="4979880"/>
                  <a:ext cx="333216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29200" y="4979880"/>
                <a:ext cx="1066680" cy="1111320"/>
                <a:chOff x="5029200" y="4979880"/>
                <a:chExt cx="1066680" cy="1111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67360" y="5018040"/>
                  <a:ext cx="99036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0 m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0 m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29200" y="4979880"/>
                  <a:ext cx="106668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095880" y="4979880"/>
                <a:ext cx="1279440" cy="1111320"/>
                <a:chOff x="6095880" y="4979880"/>
                <a:chExt cx="1279440" cy="1111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134040" y="5018040"/>
                  <a:ext cx="120348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95880" y="4979880"/>
                  <a:ext cx="12794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375320" y="4979880"/>
                <a:ext cx="1165320" cy="1111320"/>
                <a:chOff x="7375320" y="4979880"/>
                <a:chExt cx="1165320" cy="11113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13480" y="5018040"/>
                  <a:ext cx="108900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375320" y="4979880"/>
                  <a:ext cx="116532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600120" y="1138320"/>
              <a:ext cx="7945200" cy="495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ce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00120" y="1371600"/>
            <a:ext cx="7943760" cy="4500360"/>
            <a:chOff x="600120" y="1371600"/>
            <a:chExt cx="7943760" cy="4500360"/>
          </a:xfrm>
        </p:grpSpPr>
        <p:grpSp>
          <p:nvGrpSpPr>
            <p:cNvPr id="143" name=""/>
            <p:cNvGrpSpPr/>
            <p:nvPr/>
          </p:nvGrpSpPr>
          <p:grpSpPr>
            <a:xfrm>
              <a:off x="604800" y="1376280"/>
              <a:ext cx="7934400" cy="4491000"/>
              <a:chOff x="604800" y="1376280"/>
              <a:chExt cx="7934400" cy="449100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604800" y="1376280"/>
                <a:ext cx="1092240" cy="746280"/>
                <a:chOff x="604800" y="1376280"/>
                <a:chExt cx="1092240" cy="746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42960" y="1414440"/>
                  <a:ext cx="101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P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4800" y="1376280"/>
                  <a:ext cx="10922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697040" y="1376280"/>
                <a:ext cx="3330360" cy="746280"/>
                <a:chOff x="1697040" y="1376280"/>
                <a:chExt cx="3330360" cy="74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735200" y="1414440"/>
                  <a:ext cx="32544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Media aritmetica delle concentrazioni medie di 24 ore rilevate in 1 an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97040" y="1376280"/>
                  <a:ext cx="33303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27400" y="1376280"/>
                <a:ext cx="1067040" cy="746280"/>
                <a:chOff x="5027400" y="1376280"/>
                <a:chExt cx="1067040" cy="746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065560" y="1414440"/>
                  <a:ext cx="990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27400" y="1376280"/>
                  <a:ext cx="10670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094440" y="1376280"/>
                <a:ext cx="1279440" cy="746280"/>
                <a:chOff x="6094440" y="1376280"/>
                <a:chExt cx="1279440" cy="746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132600" y="1414440"/>
                  <a:ext cx="12031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94440" y="1376280"/>
                  <a:ext cx="127944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373880" y="1376280"/>
                <a:ext cx="1165320" cy="746280"/>
                <a:chOff x="7373880" y="1376280"/>
                <a:chExt cx="1165320" cy="746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12040" y="1414440"/>
                  <a:ext cx="1089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73880" y="1376280"/>
                  <a:ext cx="116532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04800" y="2198520"/>
                <a:ext cx="1092240" cy="1111320"/>
                <a:chOff x="604800" y="2198520"/>
                <a:chExt cx="1092240" cy="1111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42960" y="2236680"/>
                  <a:ext cx="10159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F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800" y="2198520"/>
                  <a:ext cx="10922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697040" y="2198520"/>
                <a:ext cx="3330360" cy="1111320"/>
                <a:chOff x="1697040" y="2198520"/>
                <a:chExt cx="3330360" cy="1111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735200" y="2236680"/>
                  <a:ext cx="325440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centrazione media di 24 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Media delle concentrazioni medie di 24 ore rilevate in 1 me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97040" y="2198520"/>
                  <a:ext cx="333036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27400" y="2198520"/>
                <a:ext cx="1067040" cy="1111320"/>
                <a:chOff x="5027400" y="2198520"/>
                <a:chExt cx="1067040" cy="1111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65560" y="2236680"/>
                  <a:ext cx="9907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027400" y="2198520"/>
                  <a:ext cx="10670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94440" y="2198520"/>
                <a:ext cx="1279440" cy="1111320"/>
                <a:chOff x="6094440" y="2198520"/>
                <a:chExt cx="1279440" cy="1111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132600" y="2236680"/>
                  <a:ext cx="12031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440" y="2198520"/>
                  <a:ext cx="12794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373880" y="2198520"/>
                <a:ext cx="1165320" cy="1111320"/>
                <a:chOff x="7373880" y="2198520"/>
                <a:chExt cx="1165320" cy="1111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412040" y="2236680"/>
                  <a:ext cx="108900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373880" y="2198520"/>
                  <a:ext cx="116532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4800" y="3386160"/>
                <a:ext cx="1092240" cy="1293840"/>
                <a:chOff x="604800" y="3386160"/>
                <a:chExt cx="1092240" cy="12938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2960" y="3424320"/>
                  <a:ext cx="101592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P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4800" y="3386160"/>
                  <a:ext cx="1092240" cy="12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97040" y="3386160"/>
                <a:ext cx="3330360" cy="1293840"/>
                <a:chOff x="1697040" y="3386160"/>
                <a:chExt cx="3330360" cy="12938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35200" y="3424320"/>
                  <a:ext cx="325440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media aritmetica delle concentrazioni medie di 24 ore rilevate nell’arco di un anno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percentile delle concentrazioni medie di 24 ore rilevate nell’arco di un an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97040" y="3386160"/>
                  <a:ext cx="3330360" cy="12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027400" y="3386160"/>
                <a:ext cx="1067040" cy="1293840"/>
                <a:chOff x="5027400" y="3386160"/>
                <a:chExt cx="1067040" cy="1293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65560" y="3424320"/>
                  <a:ext cx="99072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5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0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27400" y="3386160"/>
                  <a:ext cx="1067040" cy="12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94440" y="3386160"/>
                <a:ext cx="1279440" cy="1293840"/>
                <a:chOff x="6094440" y="3386160"/>
                <a:chExt cx="1279440" cy="1293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32600" y="3424320"/>
                  <a:ext cx="120312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apr.-31 mar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(1 apr. -31 mar.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94440" y="3386160"/>
                  <a:ext cx="1279440" cy="12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373880" y="3386160"/>
                <a:ext cx="1165320" cy="1293840"/>
                <a:chOff x="7373880" y="3386160"/>
                <a:chExt cx="1165320" cy="12938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412040" y="3424320"/>
                  <a:ext cx="1089000" cy="121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73880" y="3386160"/>
                  <a:ext cx="1165320" cy="129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04800" y="4755960"/>
                <a:ext cx="1092240" cy="1111320"/>
                <a:chOff x="604800" y="4755960"/>
                <a:chExt cx="1092240" cy="1111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2960" y="4794120"/>
                  <a:ext cx="10159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NMH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Arial Unicode MS"/>
                      <a:ea typeface="Arial Unicode MS"/>
                    </a:rPr>
                    <a:t>(espressi come C equiv.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4800" y="4755960"/>
                  <a:ext cx="10922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697040" y="4755960"/>
                <a:ext cx="3330360" cy="1111320"/>
                <a:chOff x="1697040" y="4755960"/>
                <a:chExt cx="3330360" cy="1111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735200" y="4794120"/>
                  <a:ext cx="325440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centrazione media di tre ore consecutive (da adottarsi solo nelle zone e nei periodi dell’anno nei quali si verificano superamenti dello standard per l’ozono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697040" y="4755960"/>
                  <a:ext cx="333036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027400" y="4755960"/>
                <a:ext cx="1067040" cy="1111320"/>
                <a:chOff x="5027400" y="4755960"/>
                <a:chExt cx="1067040" cy="1111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065560" y="4794120"/>
                  <a:ext cx="9907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00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/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27400" y="4755960"/>
                  <a:ext cx="10670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094440" y="4755960"/>
                <a:ext cx="1279440" cy="1111320"/>
                <a:chOff x="6094440" y="4755960"/>
                <a:chExt cx="1279440" cy="1111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132600" y="4794120"/>
                  <a:ext cx="120312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94440" y="4755960"/>
                  <a:ext cx="127944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373880" y="4755960"/>
                <a:ext cx="1165320" cy="1111320"/>
                <a:chOff x="7373880" y="4755960"/>
                <a:chExt cx="1165320" cy="1111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412040" y="4794120"/>
                  <a:ext cx="1089000" cy="10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PCM 28/03/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73880" y="4755960"/>
                  <a:ext cx="1165320" cy="111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600120" y="1371600"/>
              <a:ext cx="7943760" cy="4500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30280" y="746280"/>
            <a:ext cx="74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8080"/>
                </a:solidFill>
                <a:uFillTx/>
                <a:latin typeface="BinnerD"/>
              </a:rPr>
              <a:t>Normativa Statale </a:t>
            </a:r>
            <a:r>
              <a:rPr b="1" lang="it-IT" sz="1600" spc="-1" strike="noStrike" u="sng">
                <a:solidFill>
                  <a:srgbClr val="008080"/>
                </a:solidFill>
                <a:uFillTx/>
                <a:latin typeface="BinnerD"/>
              </a:rPr>
              <a:t>(DPCM 28.03.83 come modificato dal DPR 203/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06:56:27Z</dcterms:created>
  <dc:creator>MFavara</dc:creator>
  <dc:description/>
  <dc:language>en-US</dc:language>
  <cp:lastModifiedBy>eavanzi</cp:lastModifiedBy>
  <cp:lastPrinted>1999-05-11T15:36:47Z</cp:lastPrinted>
  <dcterms:modified xsi:type="dcterms:W3CDTF">2004-04-08T13:16:31Z</dcterms:modified>
  <cp:revision>22</cp:revision>
  <dc:subject/>
  <dc:title>Nessun titolo diapositiva</dc:title>
</cp:coreProperties>
</file>